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FA9-1492-42B5-999D-4FEFF4A7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507-3BB4-4065-A70F-98440FD2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ADF-D56C-4708-A9F2-7ADFDBB1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495-A49E-47E6-A432-2728213C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A94-3B81-4ACC-8927-B90A0D30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532-0427-4B9E-A84F-19FFDFF3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DF9-BB24-4E29-B43F-B2C53FDB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6F0-7CF2-4F98-8A98-E09D6DF2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2CB-DEE5-4B27-93C5-9E15FC64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DA4-BB4A-4F0A-B7D4-CAA08F4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21C-DFFD-4CFE-A836-8F3C0AA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882-67BC-41B4-8E75-7E76DBA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0074-2177-4F4C-97D7-77F72D00C6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skussion eines neuen Präventionsgesetzes in Deuts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nt der Förderung von Gesundheit und der Prävention von Erkrank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 demografische Entwicklung fordert ein Gesamtkonze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Zielgru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2666880"/>
            <a:ext cx="3733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ugendli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rwachs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Ältere Mens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äventive Ansätz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Individuelle Leistungen und Verhaltensän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Settingleistungen im Rahmen von Projekten in der direkten Lebensumw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Betriebliche Gesundheitsför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Patientenrechte, Patientenverfü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Transparenz, Beteiligungsrech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Infektionsschu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e mitwirkenden Zielgruppen sind aufgefüh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Ärztliche Verantwortung und Mitarbeit in keinem der Punkte inhaltlich verank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Praeventionsangebote in Deutsch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rebsfrüherken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Check-up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Haut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Früherkennungsprogramm für Kinder und Jugendliche bis zum 16. Lebensja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utterschaftsvors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edizinische Vorsorge für Mütter und Vä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Praeventionsangebote in Deutsch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rsorge mit den folgend aufgeführten Inhalten ist kostenfrei (keine Praxisgebü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nn kein Nachweis einer regelmäßigen Inanspruchnahme der Früherkennungsuntersuchungen erfolgt dann wird bei Erkrankung eine erhöhte Zuzahlung von 2 Prozent für Arznei-, Verband-, Heil- und Hilfsmittel fällig (normal 1 Prozent der jährlichen Bruttoeinnahmen zum Lebensunterha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utterschaftsvorsor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Inhalte sind in der Sitzung in Budapest erläutert w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Einige Krankenkasse (DAK, einige BKK) haben ein zusätzliches Angebot zur Reduktion der Frühgeburtenrate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agnostik der bakteriellen Vagin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zusätzliche Sonograph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eck-up 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b dem 35. Lebensjahr alle 2 Jah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usarzt oder Intern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hwerpunkt Herz- Kreislauferkrank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ierenerkrank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Individuelles Risikoprofil analysie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örperliche Untersuchung (manu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lutdruck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Urinp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lutwerte (Cholesterin, evtl. HDL/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Harnsä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reatin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EKG, wenn indiz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rebsfrüherkennungsprogra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ähr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uen ab 20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änner ab 4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ersabhängiger Leistungsinh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fasst Genita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ckdarm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20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äußere und innere Geni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Zervixab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sundheitliche Versorgu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95480" y="22856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mfaß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Prä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Akutbehand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Rehab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Pf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sundheit, Lebensqualität, Selbstbestimmung und Beschäftigungsfähigkeit altersgerecht zu erhalten und zu verstä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3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alpation der Mamm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nleitung zur Selbstuntersuchung der B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von Hautveränderu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800" y="29714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rectale Pal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aemoccult jähr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5. Lebensjah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 Jahre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Coloskopie mit Anspruch auf 2. nach 10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30477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on 50 bis 69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4 Monate Mammographie-Scre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6858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bis 25. Geburts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jährlich Chlamydienab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228564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 4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äußere Geni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Prost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Hautveränder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rectale Pal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regionärer Lymphkno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jährlich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 Jahre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Coloskopie mit Anspruch auf zweite nach  10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Haut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 3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e 2 Jah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inder- Vorso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1- U9 von Neugeborenenalter bis 6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I für Jugendliche zwischen 12 und 15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erausforderu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samtkonzept zur Betreuung und Versorgung pflegebedürftiger, behinderter und alter Mens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istungen müssen Behinderungen, chronischen Erkrankungen und Pflegebedürftigkeit entgegenwi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lkskrankheiten wie Krebs und Herz-Kreislauferkrankungen sollen zurückgedrängt we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inder-Vorso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fas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sämtlicher Org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sämtlicher Sinnesorg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des Bewegungsappa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Motor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s Hörvermö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Sprach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sozialen und geistigen 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601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stlegung nach dem aktuell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fkalender der Ständigen Impfkommi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STIK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Teta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phth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ertus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ib ( Haemophilus influenzae Typ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oliomy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epatiti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neum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239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neum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ening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MR (Masern, Mumps, Rötel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ariz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P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Influen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manche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32004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SME  (ständig an Aktualität zunehm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dizinische Vorsorge für Mütter und Vä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rsorgeleistung in Einrichtung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üttergenesungswerk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i Gefährdung der gesundheitli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twicklung des Kin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iel der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meidung von Krankheits- und Krankheitsfolgeko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rbeugen von Krankh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hütung von arbeitsbedingten Gesundheitsge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hütung von Pflegebedürftigkeit und Behin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örderung der Beschäftigungsfäh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imäre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rbeugen des erstmaligen Auftretens von Krankh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fklärung über Gesundheitsrisiken und Belast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urse für Ernä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urse zur Stressbewäl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ückensch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uchentwö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chtprä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ektionsschu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kundäre Präven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ent der Früherkennung von symptomlosen Krankheitsvor- und frühstad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Früherkennungsuntersuch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erringerung von Morbidität und Mortalitä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rtiäre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l der Verschlimmerung von Erkrankungen und Behinderungen vorbeu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l Folgeerkrankungen vorbeu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rankenbehandlung und Rehabili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ierter Ansatzpunk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nt dem Aufbau individueller Fähigkeiten sowie gesundheitsförderlicher Struk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 das Maß an Selbstbestimmung zu erhö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Schlüsselpunkte der Durchsetzung der Präventionsmassnah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Verbr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Verteilung auf bestimmte   Bevölkerungsgru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gesundheitliche und ökonomische Bedeutung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29:17Z</dcterms:created>
  <dc:creator>Kerstin Dr. med. Jäger</dc:creator>
  <dc:description/>
  <dc:language>en-US</dc:language>
  <cp:lastModifiedBy>Brigitte Ruppitsch</cp:lastModifiedBy>
  <dcterms:modified xsi:type="dcterms:W3CDTF">2008-07-09T14:52:33Z</dcterms:modified>
  <cp:revision>2</cp:revision>
  <dc:subject/>
  <dc:title>PRÄVENTION</dc:title>
</cp:coreProperties>
</file>