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137-457E-4B3F-A2B9-DB5D0AD6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6E4-569B-4090-8178-C4463203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D2F-8223-441A-82AB-288AD689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78B-E6BF-4B96-9559-F25CE964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F00-A905-4AC8-BFEC-8E9A64B1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221-BF38-448E-AB47-B381B890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570-7974-489A-809B-CFC0B505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D06-3DC4-4F74-B83D-E8C81164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1FB-6D66-44D5-B5EC-0AB0CB92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7B2-34EE-45F2-9E5D-A6F0C4BF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739-6F61-447F-8D2B-C2DCB084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771-13B1-498A-B588-38490720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E83E-396F-466F-8610-F4E4B869C77B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6:17:03Z</dcterms:created>
  <dc:creator>Rudolf Ruppitsch</dc:creator>
  <dc:description/>
  <dc:language>en-US</dc:language>
  <cp:lastModifiedBy>Brigitte Ruppitsch</cp:lastModifiedBy>
  <dcterms:modified xsi:type="dcterms:W3CDTF">2008-05-26T10:56:53Z</dcterms:modified>
  <cp:revision>5</cp:revision>
  <dc:subject/>
  <dc:title>Folie 1</dc:title>
</cp:coreProperties>
</file>