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E07-1A63-4F3F-ACCE-10650466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42E-B0CC-405B-936A-1D9125C1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B78-32DF-49F4-96C0-7B7A7319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81E-69B2-4331-BC40-31C26680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A72-EC8F-4365-A956-9507161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017-194B-47CE-8BD6-5C24D7D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F37-F27A-42E1-8505-2287CDE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C83-C2C2-463F-ABB4-CB4E8A7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962-7D75-47C5-89C7-08C7A38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86D-0B4E-41C3-9F7A-13580C6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117-10E5-439B-99BC-7205DB4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C75-9B83-4972-A39E-07074FE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F3E-46A5-45B3-BE26-0DDCF8A5EF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kussion eines neuen Präventionsgesetzes in 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r Förderung von Gesundheit und der Prävention von Erkrank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 demografische Entwicklung fordert ein Gesamtkonz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2666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gendli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rwachs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ltere Mens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ve Ansätz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dividuelle Leistungen und Verhaltensä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Settingleistungen im Rahmen von Projekten in der direkten Lebensumw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Betriebliche Gesundheitsfö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Patientenrechte, Patientenverfü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Transparenz, Beteiligungsre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fektions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mitwirkenden Zielgruppen sind auf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rztliche Verantwortung und Mitarbeit in keinem der Punkte inhaltlich verank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bsfrüherken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Früherkennungsprogramm für Kinder und Jugendliche bis zum 16. Lebensja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sorge mit den folgend aufgeführten Inhalten ist kostenfrei (keine Praxisgebü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nn kein Nachweis einer regelmäßigen Inanspruchnahme der Früherkennungsuntersuchungen erfolgt dann wird bei Erkrankung eine erhöhte Zuzahlung von 2 Prozent für Arznei-, Verband-, Heil- und Hilfsmittel fällig (normal 1 Prozent der jährlichen Bruttoeinnahmen zum Lebensunterha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halte sind in der Sitzung in Budapest erläutert w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inige Krankenkasse (DAK, einige BKK) haben ein zusätzliches Angebot zur Reduktion der Frühgeburtenrate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agnostik der bakteriellen Vagi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usätzliche Sonograph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 dem 35. Lebensjahr alle 2 Jah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usarzt oder Inter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hwerpunkt Herz- Kreislauf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ieren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ndividuelles Risikoprofil analysi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örperliche Untersuchung (manu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druck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Urin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werte (Cholesterin, evtl. HDL/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rnsä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atin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EKG, wenn ind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rebsfrüherkennungsprogra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uen 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änner 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sabhängiger Leistungs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fasst Gen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kdar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äußere und inn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ervix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sundheitliche Versorgu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mfaß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Akutbehand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f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undheit, Lebensqualität, Selbstbestimmung und Beschäftigungsfähigkeit altersgerecht zu erhalten und zu verstä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3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alpation der Mamm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leitung zur Selbstuntersuchung der B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von Hautveränderu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29714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aemoccult 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Coloskopie mit Anspruch auf 2. nach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3047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on 50 bis 69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4 Monate Mammographie-Scre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bis 25. Geburts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Chlamydien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äuß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Pros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Hautverän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regionärer Lymphkno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Coloskopie mit Anspruch auf zweite nach 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3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2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 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1- U9 von Neugeborenenalter bis 6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I für Jugendliche zwischen 12 und 15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rausforderu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amtkonzept zur Betreuung und Versorgung pflegebedürftiger, behinderter und alter Men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istungen müssen Behinderungen, chronischen Erkrankungen und Pflegebedürftigkeit entgegenwi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lkskrankheiten wie Krebs und Herz-Kreislauferkrankungen sollen zurückgedrängt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fas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Sinnes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des Bewegungsappa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Moto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s Hörvermö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prach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ozialen und geistigen 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stlegung nach dem aktuel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fkalender der Ständigen Impfkommi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TIK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Tet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phth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ertu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ib ( Haemophilus influenzae Typ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oliomy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epatiti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ening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MR (Masern, Mumps, Rötel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ariz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P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flu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manche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SME  (ständig an Aktualität zuneh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sorgeleistung in Einrichtung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üttergenesungswerk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 Gefährdung der gesundheit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wicklung des Kin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iel der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meidung von Krankheits- und Krankheitsfolgeko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beugen von Krankh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arbeitsbedingten Gesundheits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Pflegebedürftigkeit und Behi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rderung der Beschäftigungs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im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beugen des erstmaligen Auftretens von Krankh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fklärung über Gesundheitsrisiken und Belas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für 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zur Stressbewäl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ücken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uchentwö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ht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ktionssch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kundäre Präven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ent der Früherkennung von symptomlosen Krankheitsvor- und frühstad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Früherkennungsuntersuch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erringerung von Morbidität und Mortalitä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rti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der Verschlimmerung von Erkrankungen und Behinder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Folgeerkrank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rankenbehandlung und Rehabili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erter Ansatzpunk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m Aufbau individueller Fähigkeiten sowie gesundheitsförderlicher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 das Maß an Selbstbestimmung zu erhö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Schlüsselpunkte der Durchsetzung der Präventionsmassna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br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teilung auf bestimmte   Bevölkerungsgru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gesundheitliche und ökonomische Bedeutung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9:17Z</dcterms:created>
  <dc:creator>Kerstin Dr. med. Jäger</dc:creator>
  <dc:description/>
  <dc:language>en-US</dc:language>
  <cp:lastModifiedBy>Brigitte Ruppitsch</cp:lastModifiedBy>
  <dcterms:modified xsi:type="dcterms:W3CDTF">2008-07-09T14:52:33Z</dcterms:modified>
  <cp:revision>2</cp:revision>
  <dc:subject/>
  <dc:title>PRÄVENTION</dc:title>
</cp:coreProperties>
</file>