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3CA-B020-475A-B7AE-B1D3719C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476-DC38-4236-9EB1-0DB3523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6E5-01B9-49A7-AFEB-780DD1B3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8B4-9ED6-418E-B22F-D5AC9CDF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A48-BD7A-4AF6-9850-C4E083FF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474-D2DD-467C-8F95-0894145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A0F-6DD6-4170-8D9C-0462DE7A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8D2-838A-49A1-8A0A-B1615921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383-5EB4-4DE1-9C8D-E940743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6F1-E21D-48CE-996D-AF40E89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9D1-22D1-47F9-92B8-9D1C996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127-F870-4CCC-BA31-6AAD165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026F-1275-4D74-9DDC-9E5E25DB0106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6:17:03Z</dcterms:created>
  <dc:creator>Rudolf Ruppitsch</dc:creator>
  <dc:description/>
  <dc:language>en-US</dc:language>
  <cp:lastModifiedBy>Brigitte Ruppitsch</cp:lastModifiedBy>
  <dcterms:modified xsi:type="dcterms:W3CDTF">2008-05-26T10:56:53Z</dcterms:modified>
  <cp:revision>5</cp:revision>
  <dc:subject/>
  <dc:title>Folie 1</dc:title>
</cp:coreProperties>
</file>